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22.wmf" ContentType="image/x-wmf"/>
  <Override PartName="/ppt/media/image7.jpeg" ContentType="image/jpeg"/>
  <Override PartName="/ppt/media/image2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15.wmf" ContentType="image/x-wmf"/>
  <Override PartName="/ppt/media/image4.jpeg" ContentType="image/jpeg"/>
  <Override PartName="/ppt/media/image16.jpeg" ContentType="image/jpeg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417-6ED2-4441-A277-E33360BC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356-CAD4-46B3-82C1-7209BB5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CAE-B81A-42F4-B98F-75223C39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7F4-65E3-4458-B329-CBC8EFCE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791-5E0F-434B-A837-2C377DA5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FD9-6405-4A0B-AC7B-F9B650F9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EC9-321D-466D-9AC3-56441EA5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AE6-C6B3-4638-97D2-3D870CE6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515-42C5-43E5-B5EC-E43FB33D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E76-982C-4863-9D34-3E5DCE6F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CFA-0F76-4AD2-8498-30A4F002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F1C-92D6-41AB-B7AA-4CD5679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76F-3D47-40DD-BFE3-9CB008B4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1319040"/>
            <a:ext cx="6696360" cy="515160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95280" y="333360"/>
            <a:ext cx="83818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Классификация неорганических веществ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1371600"/>
            <a:ext cx="8571960" cy="5256720"/>
            <a:chOff x="228600" y="1371600"/>
            <a:chExt cx="8571960" cy="5256720"/>
          </a:xfrm>
        </p:grpSpPr>
        <p:grpSp>
          <p:nvGrpSpPr>
            <p:cNvPr id="70" name=""/>
            <p:cNvGrpSpPr/>
            <p:nvPr/>
          </p:nvGrpSpPr>
          <p:grpSpPr>
            <a:xfrm>
              <a:off x="237960" y="1386720"/>
              <a:ext cx="8551800" cy="5223960"/>
              <a:chOff x="237960" y="1386720"/>
              <a:chExt cx="8551800" cy="52239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37960" y="1386720"/>
                <a:ext cx="2221920" cy="745200"/>
                <a:chOff x="237960" y="1386720"/>
                <a:chExt cx="2221920" cy="7452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37960" y="138672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Кислотный оксид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7960" y="138672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460600" y="1386720"/>
                <a:ext cx="3180240" cy="745200"/>
                <a:chOff x="2460600" y="1386720"/>
                <a:chExt cx="3180240" cy="7452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460600" y="138672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Соответствующая кислот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460600" y="138672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641560" y="1386720"/>
                <a:ext cx="3148200" cy="745200"/>
                <a:chOff x="5641560" y="1386720"/>
                <a:chExt cx="3148200" cy="7452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641560" y="138672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Кислотный остаток в соли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41560" y="138672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37960" y="2133000"/>
                <a:ext cx="2221920" cy="745200"/>
                <a:chOff x="237960" y="2133000"/>
                <a:chExt cx="2221920" cy="7452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37960" y="213300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37960" y="213300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460600" y="2133000"/>
                <a:ext cx="3180240" cy="745200"/>
                <a:chOff x="2460600" y="2133000"/>
                <a:chExt cx="3180240" cy="7452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460600" y="213300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60600" y="213300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641560" y="2133000"/>
                <a:ext cx="3148200" cy="745200"/>
                <a:chOff x="5641560" y="2133000"/>
                <a:chExt cx="3148200" cy="7452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641560" y="213300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) сульфи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641560" y="213300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37960" y="2879640"/>
                <a:ext cx="2221920" cy="745200"/>
                <a:chOff x="237960" y="2879640"/>
                <a:chExt cx="2221920" cy="7452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37960" y="287964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37960" y="287964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460600" y="2879640"/>
                <a:ext cx="3180240" cy="745200"/>
                <a:chOff x="2460600" y="2879640"/>
                <a:chExt cx="3180240" cy="7452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460600" y="287964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460600" y="287964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641560" y="2879640"/>
                <a:ext cx="3148200" cy="745200"/>
                <a:chOff x="5641560" y="2879640"/>
                <a:chExt cx="3148200" cy="7452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641560" y="287964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4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) сульф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641560" y="287964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37960" y="3625920"/>
                <a:ext cx="2221920" cy="745200"/>
                <a:chOff x="237960" y="3625920"/>
                <a:chExt cx="2221920" cy="745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37960" y="362592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37960" y="362592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460600" y="3625920"/>
                <a:ext cx="3180240" cy="745200"/>
                <a:chOff x="2460600" y="3625920"/>
                <a:chExt cx="3180240" cy="7452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460600" y="362592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P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60600" y="362592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641560" y="3625920"/>
                <a:ext cx="3148200" cy="745200"/>
                <a:chOff x="5641560" y="3625920"/>
                <a:chExt cx="3148200" cy="7452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641560" y="362592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P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4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I) фосф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641560" y="362592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37960" y="4372560"/>
                <a:ext cx="2221920" cy="745200"/>
                <a:chOff x="237960" y="4372560"/>
                <a:chExt cx="2221920" cy="7452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37960" y="437256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37960" y="437256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460600" y="4372560"/>
                <a:ext cx="3180240" cy="745200"/>
                <a:chOff x="2460600" y="4372560"/>
                <a:chExt cx="3180240" cy="745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460600" y="437256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N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460600" y="437256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641560" y="4372560"/>
                <a:ext cx="3148200" cy="745200"/>
                <a:chOff x="5641560" y="4372560"/>
                <a:chExt cx="3148200" cy="7452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641560" y="437256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N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) нитр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641560" y="437256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37960" y="5118840"/>
                <a:ext cx="2221920" cy="745200"/>
                <a:chOff x="237960" y="5118840"/>
                <a:chExt cx="2221920" cy="7452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37960" y="511884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7960" y="511884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460600" y="5118840"/>
                <a:ext cx="3180240" cy="745200"/>
                <a:chOff x="2460600" y="5118840"/>
                <a:chExt cx="3180240" cy="7452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460600" y="511884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C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460600" y="511884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641560" y="5118840"/>
                <a:ext cx="3148200" cy="745200"/>
                <a:chOff x="5641560" y="5118840"/>
                <a:chExt cx="3148200" cy="7452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641560" y="511884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C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) карбон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641560" y="511884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37960" y="5865480"/>
                <a:ext cx="2221920" cy="745200"/>
                <a:chOff x="237960" y="5865480"/>
                <a:chExt cx="2221920" cy="7452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37960" y="586548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iO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37960" y="5865480"/>
                  <a:ext cx="222192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460600" y="5865480"/>
                <a:ext cx="3180240" cy="745200"/>
                <a:chOff x="2460600" y="5865480"/>
                <a:chExt cx="3180240" cy="745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460600" y="586548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H</a:t>
                  </a:r>
                  <a:r>
                    <a:rPr b="1" lang="en-US" sz="2400" spc="-1" strike="noStrike" baseline="-30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i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460600" y="5865480"/>
                  <a:ext cx="318024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641560" y="5865480"/>
                <a:ext cx="3148200" cy="745200"/>
                <a:chOff x="5641560" y="5865480"/>
                <a:chExt cx="3148200" cy="7452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641560" y="586548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e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Tahoma"/>
                    </a:rPr>
                    <a:t>SiO</a:t>
                  </a:r>
                  <a:r>
                    <a:rPr b="1" lang="en-US" sz="2400" spc="-1" strike="noStrike" baseline="-30000">
                      <a:solidFill>
                        <a:srgbClr val="cc0000"/>
                      </a:solidFill>
                      <a:latin typeface="Tahoma"/>
                    </a:rPr>
                    <a:t>3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(II) силикат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641560" y="5865480"/>
                  <a:ext cx="3148200" cy="745200"/>
                </a:xfrm>
                <a:prstGeom prst="rect">
                  <a:avLst/>
                </a:prstGeom>
                <a:noFill/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228600" y="1371600"/>
              <a:ext cx="8571960" cy="5256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Классификация окси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Классификация окси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56360" cy="33811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Monotype Corsiva"/>
              </a:rPr>
              <a:t>Учимся определять тип оксида по его формул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59036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) оксид бария (II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б) оксид углерода (II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) оксид ванадия (V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г) оксид железа (III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д) оксид иода (V)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67280" y="3564000"/>
            <a:ext cx="28908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ПОЛУЧЕНИЕ ОКСИ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195280" y="1052640"/>
            <a:ext cx="2305080" cy="14396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1052640"/>
            <a:ext cx="2016000" cy="15127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2565360"/>
            <a:ext cx="3887640" cy="7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горе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2637000"/>
            <a:ext cx="3888000" cy="72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раз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слож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3357720"/>
            <a:ext cx="1046160" cy="107928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3357720"/>
            <a:ext cx="936720" cy="107928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437000"/>
            <a:ext cx="158436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Verdana"/>
              </a:rPr>
              <a:t>прост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4437000"/>
            <a:ext cx="1511280" cy="647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Verdana"/>
              </a:rPr>
              <a:t>слож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357720"/>
            <a:ext cx="0" cy="14396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3284640"/>
            <a:ext cx="0" cy="9349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72360" y="3357720"/>
            <a:ext cx="0" cy="86328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4869000"/>
            <a:ext cx="1800000" cy="431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Verdana"/>
              </a:rPr>
              <a:t>осн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4221000"/>
            <a:ext cx="1295280" cy="503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Verdana"/>
              </a:rPr>
              <a:t>кисл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24720" y="4221000"/>
            <a:ext cx="1403280" cy="505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Verdana"/>
              </a:rPr>
              <a:t>с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280360" cy="33112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68360" y="40464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Monotype Corsiva"/>
              </a:rPr>
              <a:t>Химические свойства окси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Задание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оставьте самостоятельно уравнения реакций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-438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+ S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—&gt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) СаО + С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—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) ВаO + 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—&gt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) A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Р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—&gt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940360" y="2133720"/>
            <a:ext cx="23274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Задание 2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Какие оксиды надо взять, чтобы получить со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) сульфат меди (II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) нитрат кали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) карбонат бари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) фосфат железа (III)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208728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Задание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кончите уравнения реакций и подберите коэффициент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2331720"/>
            <a:ext cx="822960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) СаО+Н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—&gt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) Na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 +Н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—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) Fе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з + 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—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)  ZnO + HN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—&gt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59640" y="3860640"/>
            <a:ext cx="193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Задание 4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оставьте уравнения реакций между веществам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96472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иодоводородная кислота и оксид ба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серная кислота и оксид железа (III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азотная кислота и оксид лит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фосфорная кислота и оксид ка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Задание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кончите уравнения реакций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) NaOH + Р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) Ва(ОН)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SOз =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) Са(ОН)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)  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 + СО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2468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478240" cy="261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1341360"/>
            <a:ext cx="60483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061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КСИД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640" y="56610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ХИМИЯ –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адание 6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одберите пары реагентов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основание + кислотный оксид), которые потребуются для получения соле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8200" y="2922480"/>
            <a:ext cx="5898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) сульфата лити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) нитрата меди (II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) карбоната бари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) фосфата каль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адание 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ная свойства кислотных и основных оксидов, определите, какие из перечисленных веществ будут реагировать с водой: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О, СО,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F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з,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,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O, Si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, A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ишите уравнения осуществимых реакци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адание 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ыберите пары веществ, между которыми возможно взаимодействие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713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89320" indent="-589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и С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   К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 и Р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   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НС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)   Сu(ОН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9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Напишите уравнения осуществимых реакций.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адание 9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акие из перечисленных ниже оксидов будут реагировать с гидроксидом натрия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, MgO,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C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Составьте уравнения возможных реакций и определите тип реакци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Monotype Corsiva"/>
              </a:rPr>
              <a:t>«Подъем с препятствиям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Поднимаясь по «химической лестнице составьте формулы оксидов, назов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8316720" cy="3673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оставьте и назовите формулы всех оксидов, используя следующие карточ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302400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Провери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125360"/>
            <a:ext cx="2232000" cy="72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3860640"/>
            <a:ext cx="2232360" cy="72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Z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5950080"/>
            <a:ext cx="2232000" cy="72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3860640"/>
            <a:ext cx="2232000" cy="72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2421000"/>
            <a:ext cx="2232000" cy="72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2421000"/>
            <a:ext cx="2232000" cy="72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197000"/>
            <a:ext cx="2232000" cy="72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1916280"/>
            <a:ext cx="2232000" cy="792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4869000"/>
            <a:ext cx="223200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4941720"/>
            <a:ext cx="2232000" cy="7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Впишите формулы оксидов указанных элементов в соответствующие клетки (по стрелк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462560" cy="44942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Впишите формулы оснований и кислот указанных оксидов в соответствующие клетки </a:t>
            </a:r>
            <a:br>
              <a:rPr sz="3200"/>
            </a:b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(по стрелк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4530600" cy="4498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акончите уравнения реакций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44000" cy="266400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1465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51840" y="2276640"/>
            <a:ext cx="21787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i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песок, квар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горный хрус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2133360" cy="17971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48" name="Picture 2" descr="Магнетит"/>
          <p:cNvPicPr/>
          <p:nvPr/>
        </p:nvPicPr>
        <p:blipFill>
          <a:blip r:embed="rId2"/>
          <a:stretch/>
        </p:blipFill>
        <p:spPr>
          <a:xfrm>
            <a:off x="6372360" y="260280"/>
            <a:ext cx="2217600" cy="1765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253560" y="2251080"/>
            <a:ext cx="27518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магнитный желез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197440" cy="173988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24000" y="5734080"/>
            <a:ext cx="302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a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негашеная изве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жж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211640" y="692280"/>
            <a:ext cx="1380960" cy="19652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780000" y="2781360"/>
            <a:ext cx="216036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Evgeniy\Мои документы\Мои рисунки\ХИМИЯ\жел руда.jpg"/>
          <p:cNvPicPr/>
          <p:nvPr/>
        </p:nvPicPr>
        <p:blipFill>
          <a:blip r:embed="rId5"/>
          <a:stretch/>
        </p:blipFill>
        <p:spPr>
          <a:xfrm>
            <a:off x="6443640" y="4005360"/>
            <a:ext cx="2305080" cy="164628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343560" y="5851440"/>
            <a:ext cx="24163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красный желез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780000" y="3789360"/>
            <a:ext cx="1871640" cy="164160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028400" y="5710320"/>
            <a:ext cx="16869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Al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3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глиноз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26920" y="549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29480" y="227556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§ 30, упр. 1—7 (с. 92—93), задачи 1, 2 (с. 93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37706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Monotype Corsiva"/>
              </a:rPr>
              <a:t>ОКСИДЫ ВОКРУГ Н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•A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•6Si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олевой шп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орун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бурый железня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g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жженая магнез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•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бокс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MgO•4Si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•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таль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MgO•2Si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•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сб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углекислый г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угарн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В 1870 году в Петербургской Академии обсуждалась возможность называть вещества следующим образ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9840" y="234936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одород кислородович -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алий йодович -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одород хлорович -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C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одород азотович трехкислов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NO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Monotype Corsiva"/>
              </a:rPr>
              <a:t>Попробуем написать формулы веществ, которые по этому принципу звучат так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2792160"/>
            <a:ext cx="822960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люминий кислородович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алий кислородович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ера трикислородович –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5400" spc="-1" strike="noStrike">
                <a:solidFill>
                  <a:srgbClr val="ff0000"/>
                </a:solidFill>
                <a:latin typeface="Monotype Corsiva"/>
              </a:rPr>
              <a:t>Оксиды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Monotype Corsiva"/>
              </a:rPr>
              <a:t>– </a:t>
            </a:r>
            <a:r>
              <a:rPr b="1" i="1" lang="en-US" sz="5400" spc="-1" strike="noStrike">
                <a:solidFill>
                  <a:srgbClr val="008000"/>
                </a:solidFill>
                <a:latin typeface="Monotype Corsiva"/>
              </a:rPr>
              <a:t>сложные вещества, состоящие из двух элементов, один из которых кислоро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По химическим свойствам оксиды подразделяют на следующие т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основны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им соответствуют осн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амфотерны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им соответствуют амфотерные гидроксиды, которые сочетают свойства оснований и кисло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кислотны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им соответствуют кис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несолеобразующие или безразличны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 они не имеют своих гидроксидов и не вступают в реакции обмена (запомните их формулы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, NO, CO, Si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др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во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 занимает особое положение, по своим свойствам она является одновременно и амфотерным, и несолёобразующим оксидо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уют соединения элементов с кислородом, которые не считаются оксидами. Например,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пероксид водород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Н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фторид кислород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OF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тоже не окс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Классификация окси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Классификация окси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700280"/>
            <a:ext cx="3672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СНОВНЫЕ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СаО – Са(ОН)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Verdana"/>
              </a:rPr>
              <a:t>2      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К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О – КОН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ВаO – Ва(OН) 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Verdana"/>
              </a:rPr>
              <a:t>2   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0:55:06Z</dcterms:created>
  <dc:creator>User</dc:creator>
  <dc:description/>
  <dc:language>en-US</dc:language>
  <cp:lastModifiedBy>User</cp:lastModifiedBy>
  <dcterms:modified xsi:type="dcterms:W3CDTF">2009-08-14T12:22:20Z</dcterms:modified>
  <cp:revision>21</cp:revision>
  <dc:subject/>
  <dc:title>Слайд 1</dc:title>
</cp:coreProperties>
</file>